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80B-E99B-46B6-910D-F47C4F4C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5A5-77F2-4062-92E3-5B42A025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1E0-3754-4753-937F-FDABA6BD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34F2-0810-4243-A119-78D2A326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BB7F-DD05-47BA-92B1-232E0B09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E8B5-AE91-41F7-994F-3237CC67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1C92-B099-4B0C-8E3A-2334B3A6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73F0-20D6-4EA7-905F-EFFEB40B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5A4B-A00A-445E-BDBD-D936B8EA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7D39-37BD-4DC2-A1F3-F021EFC0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E62A-02B2-4831-A460-1904DABB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E09-E5DD-4B85-8FF7-805941D4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76B9-EF7A-4AC9-B401-EFBBFBEE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9461-B857-408D-9A52-C713AE63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4CB7-05E1-4839-8DB9-08D55675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5F78-CC72-4E18-BE3E-FA4CC575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FFB9-EC79-4BEE-8AA6-A393BA88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CC8-01BF-49D9-B10A-CE764A08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BAD-4883-4976-A1F1-FCAE590D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417-B8CC-461F-9DE4-602B233C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D10-28C5-47BA-AC3C-4BAC95F0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5B4-C157-4616-83E5-74F688B0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5191-4030-4BDE-8502-C057AE3A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9C5-7BF2-465D-BA97-7555EC75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51DB-01E5-409B-B85C-42663BF03B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4FE5-B15F-4986-9BFD-EDA4063FAD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9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Times New Roman"/>
              </a:rPr>
              <a:t>Examples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0680" y="594360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ritten by Pam Brow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62520" y="6248520"/>
            <a:ext cx="1523880" cy="50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421600" cy="3603600"/>
          </a:xfrm>
          <a:prstGeom prst="rect">
            <a:avLst/>
          </a:prstGeom>
          <a:ln w="101520">
            <a:solidFill>
              <a:srgbClr val="ffffcc"/>
            </a:solidFill>
            <a:miter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89120" y="2440080"/>
            <a:ext cx="3737160" cy="3274920"/>
          </a:xfrm>
          <a:prstGeom prst="rect">
            <a:avLst/>
          </a:prstGeom>
          <a:ln w="101520">
            <a:solidFill>
              <a:srgbClr val="ffffcc"/>
            </a:solidFill>
            <a:miter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Objective: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sign a vehicle that can protect egg in a head on collision with a concrete wal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457960" cy="3628800"/>
          </a:xfrm>
          <a:prstGeom prst="rect">
            <a:avLst/>
          </a:prstGeom>
          <a:ln w="101520">
            <a:solidFill>
              <a:srgbClr val="ffffcc"/>
            </a:solidFill>
            <a:miter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448240" cy="3622680"/>
          </a:xfrm>
          <a:prstGeom prst="rect">
            <a:avLst/>
          </a:prstGeom>
          <a:ln w="101520">
            <a:solidFill>
              <a:srgbClr val="ffffcc"/>
            </a:solidFill>
            <a:miter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457600" cy="3629160"/>
          </a:xfrm>
          <a:prstGeom prst="rect">
            <a:avLst/>
          </a:prstGeom>
          <a:ln w="101520">
            <a:solidFill>
              <a:srgbClr val="ffffcc"/>
            </a:solidFill>
            <a:miter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457600" cy="3628800"/>
          </a:xfrm>
          <a:prstGeom prst="rect">
            <a:avLst/>
          </a:prstGeom>
          <a:ln w="101520">
            <a:solidFill>
              <a:srgbClr val="ffffcc"/>
            </a:solidFill>
            <a:miter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5421240" cy="3603600"/>
          </a:xfrm>
          <a:prstGeom prst="rect">
            <a:avLst/>
          </a:prstGeom>
          <a:ln w="101520">
            <a:solidFill>
              <a:srgbClr val="ffffcc"/>
            </a:solidFill>
            <a:miter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457960" cy="3628800"/>
          </a:xfrm>
          <a:prstGeom prst="rect">
            <a:avLst/>
          </a:prstGeom>
          <a:ln w="101520">
            <a:solidFill>
              <a:srgbClr val="ffffcc"/>
            </a:solidFill>
            <a:miter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9240" y="2743200"/>
            <a:ext cx="4441680" cy="2841480"/>
          </a:xfrm>
          <a:prstGeom prst="rect">
            <a:avLst/>
          </a:prstGeom>
          <a:ln w="101520">
            <a:solidFill>
              <a:srgbClr val="ffffcc"/>
            </a:solidFill>
            <a:miter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3:17:39Z</dcterms:created>
  <dc:creator>Valued Gateway Client</dc:creator>
  <dc:description/>
  <dc:language>en-US</dc:language>
  <cp:lastModifiedBy>Flanders</cp:lastModifiedBy>
  <dcterms:modified xsi:type="dcterms:W3CDTF">2010-02-01T21:27:54Z</dcterms:modified>
  <cp:revision>21</cp:revision>
  <dc:subject/>
  <dc:title>PowerPoint Presentation</dc:title>
</cp:coreProperties>
</file>